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C9E4-8527-4690-B337-377961E1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ED7D-2FA1-47CA-86C1-68BB7AD2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472C-D413-4F6B-8C76-7A3A5B1C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D44D-A635-4EE4-A5C3-BA9420E9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8454-A3D5-4F97-B7F1-95C8DF97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CF02-C2B8-4CC9-B801-F834ADF6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06FF-883A-46C3-9A87-29A6F376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AF0F-78F6-410E-A5FA-783BB9FB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A025-8B06-4848-80CA-0E99C928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A662-5622-4A62-9A99-652EAE55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1F80-48EA-43B2-B461-EAF1B015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1880-2F59-4500-A47D-8442655A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4F37-DCD7-421F-A42E-43B388E8C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b5yTanmi7A&amp;feature=related" TargetMode="External"/><Relationship Id="rId2" Type="http://schemas.openxmlformats.org/officeDocument/2006/relationships/hyperlink" Target="http://www.youtube.com/watch?v=bHMQEggEG4k&amp;feature=related" TargetMode="External"/><Relationship Id="rId3" Type="http://schemas.openxmlformats.org/officeDocument/2006/relationships/hyperlink" Target="http://www.youtube.com/watch?v=BoE5zaAjr8Q&amp;feature=related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s, Ethos and Path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thos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8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is advertisement appeal to emotion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BH1920-72dpi"/>
          <p:cNvPicPr/>
          <p:nvPr/>
        </p:nvPicPr>
        <p:blipFill>
          <a:blip r:embed="rId1"/>
          <a:stretch/>
        </p:blipFill>
        <p:spPr>
          <a:xfrm>
            <a:off x="4724280" y="1066680"/>
            <a:ext cx="37720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 ARG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office needs"/>
          <p:cNvPicPr/>
          <p:nvPr/>
        </p:nvPicPr>
        <p:blipFill>
          <a:blip r:embed="rId1"/>
          <a:stretch/>
        </p:blipFill>
        <p:spPr>
          <a:xfrm>
            <a:off x="3200400" y="685800"/>
            <a:ext cx="5943600" cy="5776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152280" y="1066680"/>
            <a:ext cx="31244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OPY ON LEFT &amp; RESPOND ON THE R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ow do Americans feel about drink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wine opener"/>
          <p:cNvPicPr/>
          <p:nvPr/>
        </p:nvPicPr>
        <p:blipFill>
          <a:blip r:embed="rId1"/>
          <a:stretch/>
        </p:blipFill>
        <p:spPr>
          <a:xfrm>
            <a:off x="5124600" y="304920"/>
            <a:ext cx="4019400" cy="5943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228600" y="533520"/>
            <a:ext cx="4648320" cy="57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PY ON LEFT &amp; RESPOND ON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ho is the audience?  To what do these appeal?  What type of argument is being us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omer-to-alcohol"/>
          <p:cNvPicPr/>
          <p:nvPr/>
        </p:nvPicPr>
        <p:blipFill>
          <a:blip r:embed="rId1"/>
          <a:stretch/>
        </p:blipFill>
        <p:spPr>
          <a:xfrm>
            <a:off x="4648320" y="609480"/>
            <a:ext cx="3870360" cy="5943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228600" y="304920"/>
            <a:ext cx="4038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o is the audience?  To what do these appeal?  What type of argument is being u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family guy"/>
          <p:cNvPicPr/>
          <p:nvPr/>
        </p:nvPicPr>
        <p:blipFill>
          <a:blip r:embed="rId1"/>
          <a:stretch/>
        </p:blipFill>
        <p:spPr>
          <a:xfrm>
            <a:off x="4876920" y="457200"/>
            <a:ext cx="3801960" cy="57913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380880" y="380880"/>
            <a:ext cx="3581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o is the audience?  To what do these appeal?  What type of argument is being u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omer 2"/>
          <p:cNvPicPr/>
          <p:nvPr/>
        </p:nvPicPr>
        <p:blipFill>
          <a:blip r:embed="rId1"/>
          <a:stretch/>
        </p:blipFill>
        <p:spPr>
          <a:xfrm>
            <a:off x="3886200" y="228600"/>
            <a:ext cx="4952880" cy="6095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228600" y="0"/>
            <a:ext cx="33526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o is the audience?  To what do these appeal?  What type of argument is being u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o not disturb"/>
          <p:cNvPicPr/>
          <p:nvPr/>
        </p:nvPicPr>
        <p:blipFill>
          <a:blip r:embed="rId1"/>
          <a:stretch/>
        </p:blipFill>
        <p:spPr>
          <a:xfrm>
            <a:off x="4122720" y="0"/>
            <a:ext cx="5021280" cy="66294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380880" y="45720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o is the audience?  To what do these appeal?  What type of argument is being u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-women-alcohol2"/>
          <p:cNvPicPr/>
          <p:nvPr/>
        </p:nvPicPr>
        <p:blipFill>
          <a:blip r:embed="rId1"/>
          <a:stretch/>
        </p:blipFill>
        <p:spPr>
          <a:xfrm>
            <a:off x="3681360" y="0"/>
            <a:ext cx="5462640" cy="6629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0" y="304920"/>
            <a:ext cx="35053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OPY ON LEFT &amp; 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at do we associate with drink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alcohol depression"/>
          <p:cNvPicPr/>
          <p:nvPr/>
        </p:nvPicPr>
        <p:blipFill>
          <a:blip r:embed="rId1"/>
          <a:stretch/>
        </p:blipFill>
        <p:spPr>
          <a:xfrm>
            <a:off x="4724280" y="228600"/>
            <a:ext cx="4081680" cy="66294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152280" y="0"/>
            <a:ext cx="44960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OPY ON LEFT &amp; 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at is happening here?  What emotional impact do these have on the view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here are several ways to appeal to an audience.  Among them are appealing to 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logos, ethos and pathos. 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531828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regnant woman with wine"/>
          <p:cNvPicPr/>
          <p:nvPr/>
        </p:nvPicPr>
        <p:blipFill>
          <a:blip r:embed="rId1"/>
          <a:stretch/>
        </p:blipFill>
        <p:spPr>
          <a:xfrm>
            <a:off x="5607000" y="228600"/>
            <a:ext cx="3537000" cy="63244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304920" y="17460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at is happening here?  What emotional impact do these have on the view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alcohol-effects2"/>
          <p:cNvPicPr/>
          <p:nvPr/>
        </p:nvPicPr>
        <p:blipFill>
          <a:blip r:embed="rId1"/>
          <a:stretch/>
        </p:blipFill>
        <p:spPr>
          <a:xfrm>
            <a:off x="4572000" y="0"/>
            <a:ext cx="4378320" cy="6629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0" y="174600"/>
            <a:ext cx="45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OPY ON LEFT &amp; 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at is a PSA?  Which is more effective (respond after seeing both slide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Alcohol is a disease"/>
          <p:cNvPicPr/>
          <p:nvPr/>
        </p:nvPicPr>
        <p:blipFill>
          <a:blip r:embed="rId1"/>
          <a:stretch/>
        </p:blipFill>
        <p:spPr>
          <a:xfrm>
            <a:off x="4648320" y="304920"/>
            <a:ext cx="4322520" cy="60958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152280" y="174600"/>
            <a:ext cx="4419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at is a PS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= Public Service Announcement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Which is more effective? Wh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Xb5yTanmi7A&amp;feature=related_x000b_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bHMQEggEG4k&amp;feature=related_x000b_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youtube.com/watch?v=BoE5zaAjr8Q&amp;feature=rel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os, Logos, Patho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hare your advertisements and pick one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taple to construction pap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n your construction paper includ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ype of Appeal (ethos, logos, patho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ark/highlight the charged word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How it is an example of this appe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hy it is or is not effectiv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hese appeals are prevalent in almost all argum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ogo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Greek word logos is the basis for the English word logic.  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gos refers to any attempt to appeal to the intellect, the general meaning of "logical argument."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day arguments rely heavily on ethos and pathos, but academic arguments rely more on logos: there will be logical chains of reasoning supporting all claims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6324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w of our children breath fresh air in their schools, which are being sprayed, inside and out, with millions of pounds of deadly, nervous system destroying pestic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What are the details provided in this cla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girlwisconsin"/>
          <p:cNvPicPr/>
          <p:nvPr/>
        </p:nvPicPr>
        <p:blipFill>
          <a:blip r:embed="rId1"/>
          <a:stretch/>
        </p:blipFill>
        <p:spPr>
          <a:xfrm>
            <a:off x="6553080" y="152280"/>
            <a:ext cx="2274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thos: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thos is related to the English word ethics and refers to the trustworthiness of the speaker/writer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thos is an effective persuasive strategy because when we believe that the speaker does not intend to do us harm, we are more willing to listen to what s/he has to sa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a judge comments on legal precedent audiences tend to listen because it is the job of a judge to know the nature of past legal cas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os Examp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: George Foreman and his Grilling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rtoire: Boxing Champ and a Pr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George Foreman cred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gag_icabout"/>
          <p:cNvPicPr/>
          <p:nvPr/>
        </p:nvPicPr>
        <p:blipFill>
          <a:blip r:embed="rId1"/>
          <a:stretch/>
        </p:blipFill>
        <p:spPr>
          <a:xfrm>
            <a:off x="304920" y="4572000"/>
            <a:ext cx="1930320" cy="198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7086600" y="0"/>
            <a:ext cx="1762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Patho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hos is related to the words pathetic, sympathy and empathy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you accept an claim based on how it makes you feel without fully analyzing the rationale behind the claim, you are acting on pathos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may be any emotions: love, fear, patriotism, guilt, hate or jo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ajority of arguments in the popular press are heavily dependent on pathetic appeals.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eals to pathos touch a nerve and compel people to not only listen, but to also take the next step and act in the 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1:12:49Z</dcterms:created>
  <dc:creator>Tech Resources</dc:creator>
  <dc:description/>
  <dc:language>en-US</dc:language>
  <cp:lastModifiedBy>Nvasquez</cp:lastModifiedBy>
  <dcterms:modified xsi:type="dcterms:W3CDTF">2010-09-23T13:55:27Z</dcterms:modified>
  <cp:revision>11</cp:revision>
  <dc:subject/>
  <dc:title>Logos, Ethos and Pathos</dc:title>
</cp:coreProperties>
</file>